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7FC4-DB8A-48A1-939B-B5BFB5E4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52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96840"/>
            <a:ext cx="8839440" cy="59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1219320"/>
            <a:ext cx="586728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ken So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2193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219320"/>
            <a:ext cx="5867280" cy="39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86728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be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71800" y="1523880"/>
            <a:ext cx="4213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29720" y="1600200"/>
            <a:ext cx="2388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 1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c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ken soup</a:t>
            </a: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44:59Z</dcterms:created>
  <dc:creator>davisd</dc:creator>
  <dc:description/>
  <dc:language>en-US</dc:language>
  <cp:lastModifiedBy>fdlrs1</cp:lastModifiedBy>
  <dcterms:modified xsi:type="dcterms:W3CDTF">2008-08-07T15:44:34Z</dcterms:modified>
  <cp:revision>41</cp:revision>
  <dc:subject/>
  <dc:title>Slide 1</dc:title>
</cp:coreProperties>
</file>